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E9B5-F01A-459C-9742-FC8FA7CDAB2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7038-E02A-47B1-805C-20B855B6595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última reunião foi em final de agosto, início de setembro, então temos o andamento de 6 meses de trabalh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oria dos senhores estava presente, então devem se lembrar um pouco do que foi apresent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quela oportunidade, fizemos uma apresentação detalhando um pouco o sistema e seus subsistemas e para cada subsistema apresentamos o estágio de desenvolvimento. Para esta então nós suprimimos a parte que explica os subsistemas e vamos apresentar diretamente os andamentos. Algumas atividades até já foram apresentadas na última reunião, na forma de atividade em andamento, e agora elas aparecem como atividades concluíd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8CBA-806D-4CC0-99DC-7C7FBDACC82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891E-F8CF-48D8-A128-06DE78B4F5C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C4F9-558A-4873-96F8-E62E2A1BA4D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0995-C52D-4761-8F1C-A88398758A6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155A-B5DC-4F2A-A3C5-4525A9ED6EB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DFF7-0F35-4687-8BD2-E3DD86DE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7A7-414D-452B-B9F8-AD1FC005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7AC-E6A9-47A5-A49C-F164EB51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697-5834-487C-B016-979028C5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200-1E7C-4D3E-BEA1-CDFCB0A4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50F-5AC9-4F7E-9B43-177FDDD1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6A0-AF9E-4CC1-9A37-BBD485CF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6EC-1E06-4632-8F42-C4160EE4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58D-4206-4F1C-BDAD-811F7FF3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698-89D1-47AB-BCE8-CA538AEB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0D0-D3D7-45EF-B0CB-C0C30AFF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F41-7877-4A6F-A95F-CB5F53A0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22F7-CDFF-49CB-8791-D0D3AC692CE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868640"/>
            <a:ext cx="8610480" cy="13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504d"/>
                </a:solidFill>
                <a:latin typeface="Calibri"/>
              </a:rPr>
              <a:t>Agência Nacional de Águas</a:t>
            </a:r>
            <a:br>
              <a:rPr sz="2400"/>
            </a:br>
            <a:r>
              <a:rPr b="1" lang="pt-BR" sz="2400" spc="-1" strike="noStrike">
                <a:solidFill>
                  <a:srgbClr val="c0504d"/>
                </a:solidFill>
                <a:latin typeface="Calibri"/>
              </a:rPr>
              <a:t>Superintendência de Gestão da Informação - S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2744640"/>
            <a:ext cx="83534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Calibri"/>
              </a:rPr>
              <a:t>Sistema Nacional de Informações sobre Recursos Hídricos - SNIR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66760" y="3857760"/>
            <a:ext cx="86104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CNARH – SINCRO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>
            <a:alphaModFix amt="6000"/>
          </a:blip>
          <a:stretch/>
        </p:blipFill>
        <p:spPr>
          <a:xfrm>
            <a:off x="3214800" y="1000080"/>
            <a:ext cx="2376360" cy="1631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4133880" y="6224760"/>
            <a:ext cx="50101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Maurício Cezar Rebello Cord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NARH - Sincronis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6286680" cy="272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214200" y="2771640"/>
            <a:ext cx="6715080" cy="408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395280" y="84312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Calibri"/>
              </a:rPr>
              <a:t>Cadastro Simplifi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ço Reservado para Conteúdo 2"/>
          <p:cNvSpPr/>
          <p:nvPr/>
        </p:nvSpPr>
        <p:spPr>
          <a:xfrm>
            <a:off x="250920" y="1413000"/>
            <a:ext cx="8497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cadastro atual (CNARH completo) é base para a implementação de outros instrumentos de gestão pela ANA: outorga e cobranç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r esse motivo, um grande número de dados são solicitadas a serem preenchidas pelo usuário no cadastro completo, que dizem respeito, não somente a ao cadastro, mas aos outros instrumentos de gest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s informações para a implementação dos outros instrumentos, variam de estado para est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r esses motivos, a ANA está desenvolvendo o Cadastro Simplificado (CNARH Simplificado), com o seguinte funciona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enchimento somente com dados de cadastro do usuário, com dados de hidrolog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aso seja um usuário “não passível de outorga” e em rio de domínio da união, será emitido uma declaração de regulariz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aso seja um usuário “passível de outorga”, em rio de domínio da união o sistema irá direcionar para o preenchimento de outros dados relacionados a outorga, e se for o caso, cobranç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285920" y="0"/>
            <a:ext cx="6500880" cy="4857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285920" y="4143240"/>
            <a:ext cx="6500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upo 7"/>
          <p:cNvGrpSpPr/>
          <p:nvPr/>
        </p:nvGrpSpPr>
        <p:grpSpPr>
          <a:xfrm>
            <a:off x="928800" y="0"/>
            <a:ext cx="6929280" cy="6858000"/>
            <a:chOff x="928800" y="0"/>
            <a:chExt cx="6929280" cy="6858000"/>
          </a:xfrm>
        </p:grpSpPr>
        <p:pic>
          <p:nvPicPr>
            <p:cNvPr id="140" name="Picture 2" descr=""/>
            <p:cNvPicPr/>
            <p:nvPr/>
          </p:nvPicPr>
          <p:blipFill>
            <a:blip r:embed="rId1"/>
            <a:stretch/>
          </p:blipFill>
          <p:spPr>
            <a:xfrm>
              <a:off x="928800" y="0"/>
              <a:ext cx="692928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"/>
            <p:cNvPicPr/>
            <p:nvPr/>
          </p:nvPicPr>
          <p:blipFill>
            <a:blip r:embed="rId2"/>
            <a:stretch/>
          </p:blipFill>
          <p:spPr>
            <a:xfrm>
              <a:off x="928800" y="4929120"/>
              <a:ext cx="6929280" cy="192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Grupo 8"/>
          <p:cNvGrpSpPr/>
          <p:nvPr/>
        </p:nvGrpSpPr>
        <p:grpSpPr>
          <a:xfrm>
            <a:off x="928800" y="0"/>
            <a:ext cx="7358040" cy="6858000"/>
            <a:chOff x="928800" y="0"/>
            <a:chExt cx="7358040" cy="6858000"/>
          </a:xfrm>
        </p:grpSpPr>
        <p:pic>
          <p:nvPicPr>
            <p:cNvPr id="147" name="Picture 2" descr=""/>
            <p:cNvPicPr/>
            <p:nvPr/>
          </p:nvPicPr>
          <p:blipFill>
            <a:blip r:embed="rId1"/>
            <a:stretch/>
          </p:blipFill>
          <p:spPr>
            <a:xfrm>
              <a:off x="928800" y="0"/>
              <a:ext cx="7358040" cy="493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" descr=""/>
            <p:cNvPicPr/>
            <p:nvPr/>
          </p:nvPicPr>
          <p:blipFill>
            <a:blip r:embed="rId2"/>
            <a:stretch/>
          </p:blipFill>
          <p:spPr>
            <a:xfrm>
              <a:off x="928800" y="4714920"/>
              <a:ext cx="735804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"/>
            <p:cNvPicPr/>
            <p:nvPr/>
          </p:nvPicPr>
          <p:blipFill>
            <a:blip r:embed="rId3"/>
            <a:stretch/>
          </p:blipFill>
          <p:spPr>
            <a:xfrm>
              <a:off x="5429520" y="6500880"/>
              <a:ext cx="1500120" cy="15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929280" cy="5214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1143000" y="4929120"/>
            <a:ext cx="69292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8568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truturas de dados complexas e bastante heterogên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stemas com diferentes níveis de maturi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nceitos diferentes (ex. empreendimento integrado X ponto de captaçã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395280" y="107172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Calibri"/>
              </a:rPr>
              <a:t>Dificuldades para integração de d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o 12"/>
          <p:cNvGrpSpPr/>
          <p:nvPr/>
        </p:nvGrpSpPr>
        <p:grpSpPr>
          <a:xfrm>
            <a:off x="1783440" y="3529080"/>
            <a:ext cx="5299200" cy="3260520"/>
            <a:chOff x="1783440" y="3529080"/>
            <a:chExt cx="5299200" cy="3260520"/>
          </a:xfrm>
        </p:grpSpPr>
        <p:pic>
          <p:nvPicPr>
            <p:cNvPr id="58" name="Picture 5" descr=""/>
            <p:cNvPicPr/>
            <p:nvPr/>
          </p:nvPicPr>
          <p:blipFill>
            <a:blip r:embed="rId2"/>
            <a:stretch/>
          </p:blipFill>
          <p:spPr>
            <a:xfrm>
              <a:off x="2143080" y="3529080"/>
              <a:ext cx="464364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CaixaDeTexto 6"/>
            <p:cNvSpPr/>
            <p:nvPr/>
          </p:nvSpPr>
          <p:spPr>
            <a:xfrm>
              <a:off x="2648520" y="3714480"/>
              <a:ext cx="78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CNAR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CaixaDeTexto 7"/>
            <p:cNvSpPr/>
            <p:nvPr/>
          </p:nvSpPr>
          <p:spPr>
            <a:xfrm>
              <a:off x="5355360" y="371448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aixaDeTexto 8"/>
            <p:cNvSpPr/>
            <p:nvPr/>
          </p:nvSpPr>
          <p:spPr>
            <a:xfrm>
              <a:off x="1783440" y="500076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CaixaDeTexto 9"/>
            <p:cNvSpPr/>
            <p:nvPr/>
          </p:nvSpPr>
          <p:spPr>
            <a:xfrm>
              <a:off x="6069960" y="507204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CaixaDeTexto 10"/>
            <p:cNvSpPr/>
            <p:nvPr/>
          </p:nvSpPr>
          <p:spPr>
            <a:xfrm>
              <a:off x="2497680" y="635832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50012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finição do conjunto mínimo de dados a serem integrados (Balanço Hídric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tabelecimento de padrão para intercâmbio de d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senvolvimento de aplicativo para sincron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enários distin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395280" y="857160"/>
            <a:ext cx="8353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Calibri"/>
              </a:rPr>
              <a:t>CNARH - Sincron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upo 13"/>
          <p:cNvGrpSpPr/>
          <p:nvPr/>
        </p:nvGrpSpPr>
        <p:grpSpPr>
          <a:xfrm>
            <a:off x="2069280" y="3643200"/>
            <a:ext cx="4942080" cy="2981520"/>
            <a:chOff x="2069280" y="3643200"/>
            <a:chExt cx="4942080" cy="2981520"/>
          </a:xfrm>
        </p:grpSpPr>
        <p:pic>
          <p:nvPicPr>
            <p:cNvPr id="68" name="Picture 6" descr=""/>
            <p:cNvPicPr/>
            <p:nvPr/>
          </p:nvPicPr>
          <p:blipFill>
            <a:blip r:embed="rId2"/>
            <a:stretch/>
          </p:blipFill>
          <p:spPr>
            <a:xfrm>
              <a:off x="2457360" y="3643200"/>
              <a:ext cx="4229280" cy="29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CaixaDeTexto 7"/>
            <p:cNvSpPr/>
            <p:nvPr/>
          </p:nvSpPr>
          <p:spPr>
            <a:xfrm>
              <a:off x="2934360" y="3714480"/>
              <a:ext cx="78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CNAR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CaixaDeTexto 8"/>
            <p:cNvSpPr/>
            <p:nvPr/>
          </p:nvSpPr>
          <p:spPr>
            <a:xfrm>
              <a:off x="5355720" y="371448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CaixaDeTexto 9"/>
            <p:cNvSpPr/>
            <p:nvPr/>
          </p:nvSpPr>
          <p:spPr>
            <a:xfrm>
              <a:off x="2069280" y="492912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CaixaDeTexto 10"/>
            <p:cNvSpPr/>
            <p:nvPr/>
          </p:nvSpPr>
          <p:spPr>
            <a:xfrm>
              <a:off x="5998680" y="492912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CaixaDeTexto 11"/>
            <p:cNvSpPr/>
            <p:nvPr/>
          </p:nvSpPr>
          <p:spPr>
            <a:xfrm>
              <a:off x="2712240" y="621540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CaixaDeTexto 12"/>
            <p:cNvSpPr/>
            <p:nvPr/>
          </p:nvSpPr>
          <p:spPr>
            <a:xfrm>
              <a:off x="3972600" y="5000760"/>
              <a:ext cx="1198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Padrão X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CaixaDeTexto 5"/>
          <p:cNvSpPr/>
          <p:nvPr/>
        </p:nvSpPr>
        <p:spPr>
          <a:xfrm>
            <a:off x="320760" y="2286000"/>
            <a:ext cx="850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enário 1 - Estado utiliza integralmente o CNARH na 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feita uma cópia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integral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os dados do CNARH no estado, com a mesma estrutura de dados do CNARH 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partir dessa cópia, estado pode manipular os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enário 2 – Estado utiliza sistema de cadastro próp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njunto mínimo de dados para balanço híd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95280" y="107172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Calibri"/>
              </a:rPr>
              <a:t>CNARH - Sincron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tângulo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1643040"/>
            <a:ext cx="8653320" cy="485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77"/>
          <p:cNvSpPr/>
          <p:nvPr/>
        </p:nvSpPr>
        <p:spPr>
          <a:xfrm>
            <a:off x="1071720" y="85716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Visão Unificada CNARH – Sincronismo (Cenário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Utilizam o CNARH como Cadastro Esta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onector reto 10"/>
          <p:cNvSpPr/>
          <p:nvPr/>
        </p:nvSpPr>
        <p:spPr>
          <a:xfrm>
            <a:off x="5572080" y="6072120"/>
            <a:ext cx="0" cy="50004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onector reto 8"/>
          <p:cNvSpPr/>
          <p:nvPr/>
        </p:nvSpPr>
        <p:spPr>
          <a:xfrm flipH="1">
            <a:off x="5643360" y="3857760"/>
            <a:ext cx="3143160" cy="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ector reto 14"/>
          <p:cNvSpPr/>
          <p:nvPr/>
        </p:nvSpPr>
        <p:spPr>
          <a:xfrm>
            <a:off x="5572080" y="3643200"/>
            <a:ext cx="0" cy="71460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ector reto 16"/>
          <p:cNvSpPr/>
          <p:nvPr/>
        </p:nvSpPr>
        <p:spPr>
          <a:xfrm>
            <a:off x="5572080" y="1571760"/>
            <a:ext cx="0" cy="57132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nector reto 18"/>
          <p:cNvSpPr/>
          <p:nvPr/>
        </p:nvSpPr>
        <p:spPr>
          <a:xfrm>
            <a:off x="5572080" y="5072040"/>
            <a:ext cx="0" cy="21420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ector reto 20"/>
          <p:cNvSpPr/>
          <p:nvPr/>
        </p:nvSpPr>
        <p:spPr>
          <a:xfrm>
            <a:off x="5572080" y="2714760"/>
            <a:ext cx="0" cy="21420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ector reto 21"/>
          <p:cNvSpPr/>
          <p:nvPr/>
        </p:nvSpPr>
        <p:spPr>
          <a:xfrm>
            <a:off x="2928960" y="1643040"/>
            <a:ext cx="0" cy="92880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ector reto 22"/>
          <p:cNvSpPr/>
          <p:nvPr/>
        </p:nvSpPr>
        <p:spPr>
          <a:xfrm>
            <a:off x="2928960" y="5857920"/>
            <a:ext cx="0" cy="78588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ector reto 23"/>
          <p:cNvSpPr/>
          <p:nvPr/>
        </p:nvSpPr>
        <p:spPr>
          <a:xfrm>
            <a:off x="2928960" y="3214800"/>
            <a:ext cx="0" cy="71424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to 24"/>
          <p:cNvSpPr/>
          <p:nvPr/>
        </p:nvSpPr>
        <p:spPr>
          <a:xfrm>
            <a:off x="2928960" y="4572000"/>
            <a:ext cx="0" cy="71424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tângulo 17"/>
          <p:cNvSpPr/>
          <p:nvPr/>
        </p:nvSpPr>
        <p:spPr>
          <a:xfrm>
            <a:off x="7286760" y="4143240"/>
            <a:ext cx="1714320" cy="1857600"/>
          </a:xfrm>
          <a:prstGeom prst="rect">
            <a:avLst/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Relató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Sistema de Outor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(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tângulo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142920" y="1790640"/>
            <a:ext cx="8772480" cy="48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98" name="Retângulo 77"/>
          <p:cNvSpPr/>
          <p:nvPr/>
        </p:nvSpPr>
        <p:spPr>
          <a:xfrm>
            <a:off x="1071720" y="78588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Visão Unificada CNARH – Sincronismo (Cenário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Não utiliza o CNARH como Cadastro Estadual – Possui seu próprio sis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ector reto 9"/>
          <p:cNvSpPr/>
          <p:nvPr/>
        </p:nvSpPr>
        <p:spPr>
          <a:xfrm>
            <a:off x="5715000" y="3929040"/>
            <a:ext cx="0" cy="71424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ector reto 10"/>
          <p:cNvSpPr/>
          <p:nvPr/>
        </p:nvSpPr>
        <p:spPr>
          <a:xfrm>
            <a:off x="5715000" y="1714680"/>
            <a:ext cx="0" cy="171432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ector reto 13"/>
          <p:cNvSpPr/>
          <p:nvPr/>
        </p:nvSpPr>
        <p:spPr>
          <a:xfrm>
            <a:off x="3071880" y="1643040"/>
            <a:ext cx="0" cy="171468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ector reto 14"/>
          <p:cNvSpPr/>
          <p:nvPr/>
        </p:nvSpPr>
        <p:spPr>
          <a:xfrm>
            <a:off x="3071880" y="3857760"/>
            <a:ext cx="0" cy="71424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onector reto 15"/>
          <p:cNvSpPr/>
          <p:nvPr/>
        </p:nvSpPr>
        <p:spPr>
          <a:xfrm>
            <a:off x="5715000" y="5143680"/>
            <a:ext cx="0" cy="171432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onector reto 17"/>
          <p:cNvSpPr/>
          <p:nvPr/>
        </p:nvSpPr>
        <p:spPr>
          <a:xfrm>
            <a:off x="3071880" y="5143680"/>
            <a:ext cx="0" cy="171432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tângulo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280" y="304920"/>
          <a:ext cx="8801280" cy="6343560"/>
        </p:xfrm>
        <a:graphic>
          <a:graphicData uri="http://schemas.openxmlformats.org/drawingml/2006/table">
            <a:tbl>
              <a:tblPr/>
              <a:tblGrid>
                <a:gridCol w="1797120"/>
                <a:gridCol w="2317680"/>
                <a:gridCol w="4686480"/>
              </a:tblGrid>
              <a:tr h="198360"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pos mínimos para compartilhamento de dados de usuários com os órgaos estaduais para fins de balanço hídric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tos de interferência: Superficial e Subterrâne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dor da interferê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 da entidade responsável (outorgad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F/CNP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F ou CNPJ da entidade responsá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ção, lançamento ou barrag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interferência (captação de água superficial, captação de água subterrânea, lançamento de efluentes ou barrage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 do E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 do Municíp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dade Princi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dade do uso da água associado à interferê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tu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us decim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tude do ponto de captação, lançamento ou barrag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us decim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e do ponto de captação, lançamento ou barrag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 D'á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 do corpo d'água onde está localizada a interferê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ínio do Corpo D'á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ínio do Corpo D'á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_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ura_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_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m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do reservatório existente (associado à barrage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³/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zão máxima de captação ou de lançamento de eflu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³/dia (não seria m3/h ??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diário médio captado ou lanç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s por 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me de captação ou de lançamento em horas por 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 por mê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me de captação ou de lançamento em dias por mê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,mm,mm,mm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es de captação ou lançamento, no formato: 01, 02, 03, 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ção de DBO do efluente lanç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ósf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ção de fósforo total do efluente lanç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gê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ção de Nitrogênio total do efluente lanç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ção Outor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ção da outorga (Outorgado, Não outorgável, Em anális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 Outorga/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e ano do documento de outorga (resolução, portaria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final outor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/mm/aa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de expiração da outorga emitida pelo órgão ges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rg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rgão gestor que emitiu a outor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 Declar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 da declaração no sistema original (ex. no CNARH, seria o número da última declaração válid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tângulo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063800" y="2305080"/>
            <a:ext cx="6994440" cy="2362320"/>
          </a:xfrm>
          <a:prstGeom prst="rect">
            <a:avLst/>
          </a:prstGeom>
          <a:ln w="0">
            <a:noFill/>
          </a:ln>
        </p:spPr>
      </p:pic>
      <p:sp>
        <p:nvSpPr>
          <p:cNvPr id="110" name="Retângulo 77"/>
          <p:cNvSpPr/>
          <p:nvPr/>
        </p:nvSpPr>
        <p:spPr>
          <a:xfrm>
            <a:off x="1285920" y="1357200"/>
            <a:ext cx="64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ela de Autenticação do Usu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Autenticar o Usuári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tângulo 44"/>
          <p:cNvSpPr/>
          <p:nvPr/>
        </p:nvSpPr>
        <p:spPr>
          <a:xfrm>
            <a:off x="0" y="-14292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460520" y="2019240"/>
            <a:ext cx="6426360" cy="3143160"/>
          </a:xfrm>
          <a:prstGeom prst="rect">
            <a:avLst/>
          </a:prstGeom>
          <a:ln w="0">
            <a:noFill/>
          </a:ln>
        </p:spPr>
      </p:pic>
      <p:sp>
        <p:nvSpPr>
          <p:cNvPr id="116" name="Retângulo 77"/>
          <p:cNvSpPr/>
          <p:nvPr/>
        </p:nvSpPr>
        <p:spPr>
          <a:xfrm>
            <a:off x="1357200" y="932040"/>
            <a:ext cx="646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ela Parametr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Manter  Parametrização de Requisição de Banco de D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1428840" y="2000160"/>
            <a:ext cx="6484680" cy="292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1428840" y="2000160"/>
            <a:ext cx="6429240" cy="29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9:38:44Z</dcterms:created>
  <dc:creator>emerson.ferreira</dc:creator>
  <dc:description/>
  <dc:language>en-US</dc:language>
  <cp:lastModifiedBy>raquel.ferreira</cp:lastModifiedBy>
  <dcterms:modified xsi:type="dcterms:W3CDTF">2011-05-10T18:32:03Z</dcterms:modified>
  <cp:revision>161</cp:revision>
  <dc:subject/>
  <dc:title>Slide 1</dc:title>
</cp:coreProperties>
</file>